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ACD-04E8-4FD0-8342-46A92240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3DD-82BC-4B4D-B140-593B0C9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B9D-47D1-49FB-9358-3C5AA8B3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36A-8A05-4F0B-A57F-0C773A6E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2E8-555F-4B1B-A54A-D6DE9C9B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6E9-AA37-4AB2-AE7F-BB1E9CB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127-2BCB-46CE-8D5F-E381CBF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EB4-0F81-4855-B52D-538D937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7F4-0DEA-449C-B94B-C75735B5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225-9306-4BAB-9741-72A74C0B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702-2FDF-46C4-A021-A40A473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6CB-E50B-454C-BCEC-94D006E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211-7F46-4F36-A22B-2A96A6DF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172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6981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2:11:40Z</dcterms:created>
  <dc:creator>lucas.chase</dc:creator>
  <dc:description/>
  <dc:language>en-US</dc:language>
  <cp:lastModifiedBy>lucas.chase</cp:lastModifiedBy>
  <dcterms:modified xsi:type="dcterms:W3CDTF">2010-03-15T03:31:35Z</dcterms:modified>
  <cp:revision>23</cp:revision>
  <dc:subject/>
  <dc:title>Slide 1</dc:title>
</cp:coreProperties>
</file>